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249-07F1-4F0E-A13E-318B0788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AB7-713B-44D4-BFDA-3F095E9C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548-E85B-4015-86F0-9164AA47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658-E7A1-4DA6-A484-E62641B6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AF6-521E-4E84-95B9-9A2680F1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404-33E5-433D-88F6-7860ECB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4F7-4F24-4295-BA7D-5A10D7B4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116-718B-4B28-9414-FA953A3C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B8E-3827-4C14-A017-24C2BE44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AFE-D6C1-476E-93D5-60837CAB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E20-75F8-4A66-A4A8-5C48DFC1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36E-4881-477C-8C38-A999058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E6EB-9332-4179-A408-C0A695D0F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dependence II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e Winetrou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633-C14B-4FCC-BE25-7FAC2477F26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Task Force Proposal </a:t>
            </a:r>
            <a:br>
              <a:rPr sz="3200"/>
            </a:b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ublic Interest Entiti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m should not provide internal audit services that relate to internal accounting controls, financial systems or financial statements (does not preclude “operational” audi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m not precluded from providing a non-recurring internal audit service to evaluate a particular matter (e.g. assist in a fraud investigation), provided services otherwise permitted under Section 290 and conditions in 290.189 are 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C15-6EB9-4287-8F8F-9AB84F4775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ED Proposal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 PIEs – threats and safegu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s – If total fees &gt;15% for two years disclose to those charged with governance and eith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t issuance review by accountant who is not a member of the firm;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-issuance review by accountant who is not a member of the fi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s – In subsequent years in determining which of these safeguards should be applied consideration to be given to relative size of fee. At a minimum a post issuance review once every three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59E-1F44-4EA7-8D20-6FBA66E16FB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 as to whether a bright-line test is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avor (elev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e 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cessary for clarity and consistent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ainst (fourte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consistent with a conceptual framework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ht have a disproportionate impact on smaller firms and on firm concen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5F9-0777-441D-BF89-658FD166962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losure to those charged with governance – general suppo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 and post issuance review – general support though some expressed the view that only a pre-issuance review was strong enough - some stated review could be performed by a regulatory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fficient guidance on size relative to partner or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55F-6D75-4B0B-9F43-5FD247F030B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Proposed Chang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 the application of safeguards to the second year’s audit opin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 review could be performed by a professional regulatory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 firm to discuss with those charged with governance the safeguard that will be appl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fees significantly exceed 15% firm should determine whether pre-issuance review is the necessary safeguard (not-post issu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and guidance on size relative to partner or of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53D-71A9-4D6B-8603-28D90F587A9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tingent fees – ED Pos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not perform an assurance service for a contingent f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not perform a non-assurance service for an audit client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unt of fee is material to the firm;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 is dependent upon the outcome of a future or contemporary audit judgment related to a material amount in the financial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9F6-1545-476D-9DF5-22D5F22CCEC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tingent fees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ly suppor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 respondents of view should not charge any contingent fee to an audit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respondents of view there should be specific guidance on t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respondents of view guidance should include prohibition on contingent fee arrangements between a firm and a third 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respondent of view should address contingent fees charged by a network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ral noted Section 291 not aligned to 2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AA8-C060-48D5-B02E-A809DC360A3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tingent fees – Proposed Chang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 contingent fee cannot be charged directly or in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d guidance to include a prohibition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firms that participate in a significant part of the audit from charging a material contingent fee;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ontingent fee for non-assurance service where the  financial statement amounts are material and will be subject of significant future or contemporary audit jud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ign guidance in Section 291 with 290 on providing an assurance service for a contingent f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239-3F26-4CCA-9ED8-DDC9714413D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2FE-0638-4789-9F54-6F2531011B59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ent period ended October 15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SBA discussed in January and plans to approve Apr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4 responses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l au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s relative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gent f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E61-C284-4CC1-B3A4-C63FA60B43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Pos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review threat may be created when a firm provides internal audit services to an audit 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not perform management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542-7CBF-42C3-94C0-F973DD9A07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Pos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only provide assistance to an audit client’s internal audit function 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acknowledges responsibility for establishing, maintaining and monitoring intern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designates competent employee to be responsible for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, or those charged with governance, approve scope, risk and frequency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evaluates adequacy of procedures and fin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ings and recommendations are reported appropriately to those charged with gover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A24-458B-42BA-A75C-2B88C8A932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Responses 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ity of respondents support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ght respondents not suppor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ternal audit to any audit client (2 respon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ternal audit to a PIE audit client (3 respon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ternal audit if going to place significant reliance in external audit (1 respon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guards not sufficiently robust (1 respon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s not sufficiently restrictive (1 respon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B67-D34D-4811-8F86-72F28955A1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larity needed on definition/description of internal audi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285-69E9-436E-8083-2C54B262C0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Proposed Chang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paragraph describing internal audit activities – consistent with ISA 610 Auditor’s Consideration of the Internal Audit Fun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guidance on types of internal audit services that involve assuming a management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208-DD6A-439C-9A86-402E7144CC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Proposed Changes </a:t>
            </a:r>
            <a:br>
              <a:rPr sz="3200"/>
            </a:b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n Public Interest Entiti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firm provides internal audit services, and results of the services will be used in the external audit, self-review threat created because of possibility results will be used without appropriate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ificance of threat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ality of related financial statement amou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k of material misstatement of assertions related to those financial statement amou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gree of re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BE0-E91B-42F3-8E3E-31BFF6BE5B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IESBA Direction </a:t>
            </a:r>
            <a:br>
              <a:rPr sz="3200"/>
            </a:b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ublic Interest Entiti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 provision of internal audit services for public interest audit cl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9CE-CD4E-4416-8088-0F7CAA0926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3-05T11:23:05Z</dcterms:modified>
  <cp:revision>625</cp:revision>
  <dc:subject/>
  <dc:title>INTERNATIONAL FEDERATION OF ACCOUNTANTS</dc:title>
</cp:coreProperties>
</file>