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9F7-AEAF-4F33-A2A0-420947FD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C47-2330-406B-BB2B-F3BA021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71E-CD71-472A-8922-9474EF03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60F-B772-405F-B1AD-4442988E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B5D-EA71-43A3-97E8-F33B434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E28-EF36-4E60-96F6-C912E73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05D-5E9E-43B4-892E-D7DB210F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09D-C51B-4230-B006-C8211AA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436-E28C-40EE-8358-4C8962D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609-833A-4445-AEFB-B753E3C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9F8-CB54-4BE0-8E0D-763EB8E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A2E-6204-497E-B649-36CE9E7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D07F-36D9-4E7D-8F3B-C5C262F95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dependence II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e Winetro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AD8-8ECB-43E9-8548-023240820A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Task Force Proposal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should not provide internal audit services that relate to internal accounting controls, financial systems or financial statements (does not preclude “operational” audi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not precluded from providing a non-recurring internal audit service to evaluate a particular matter (e.g. assist in a fraud investigation), provided services otherwise permitted under Section 290 and conditions in 290.189 are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245-1A7E-4E33-9240-264410F570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Proposal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 PIEs – threats and safegu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f total fees &gt;15% for two years disclose to those charged with governance and ei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 issuance review by accountant who is not a member of the firm;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-issuance review by accountant who is not a member of the fi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n subsequent years in determining which of these safeguards should be applied consideration to be given to relative size of fee. At a minimum a post issuance review once every three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917-28D1-466F-B458-C2C8B70909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as to whether a bright-line test is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avor (elev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e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cessary for clarity and consistent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(fourte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onsistent with a conceptual framework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have a disproportionate impact on smaller firms and on firm 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209-E28D-4F61-ACE1-9A8145483D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losure to those charged with governance – general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 and post issuance review – general support though some expressed the view that only a pre-issuance review was strong enough - some stated review could be performed by a regulatory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fficient guidance on size relative to partner or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9FE-C1C7-4753-B6FE-671E3ACDB8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the application of safeguards to the second year’s audit opi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 review could be performed by a professional regulatory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firm to discuss with those charged with governance the safeguard that will be ap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fees significantly exceed 15% firm should determine whether pre-issuance review is the necessary safeguard (not-post issu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 guidance on size relative to partner or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1CC-7723-4A42-86A8-A57BD33141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n assurance service for a contingent f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 non-assurance service for an audit client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fee is material to the firm;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 is dependent upon the outcome of a future or contemporary audit judgment related to a material amount in the financia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2DC-30AC-4DD6-BA26-4B9E0B479F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suppor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 respondents of view should not charge any contingent fee to an audit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there should be specific guidance on 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guidance should include prohibition on contingent fee arrangements between a firm and a third 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respondent of view should address contingent fees charged by a network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noted Section 291 not aligned to 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A37-0612-40EC-98E1-ECDE150D01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 contingent fee cannot be charged directly or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 guidance to include a prohibition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firms that participate in a significant part of the audit from charging a material contingent fee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ntingent fee for non-assurance service where the  financial statement amounts are material and will be subject of significant future or contemporary audit jud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gn guidance in Section 291 with 290 on providing an assurance service for a contingent f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1F6-2035-4267-B0D7-BFDDF2DB57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6B1-C5D8-40CE-B1CB-E5F3D3CA7D17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 period ended October 15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SBA discussed in January and plans to approve Apr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4 response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s relativ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gent f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6B2-0B8C-41C3-A765-09B22DDFBF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review threat may be created when a firm provides internal audit services to an audit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managemen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73C-72EC-4095-9B2A-5B60333D4C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provide assistance to an audit client’s internal audit function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acknowledges responsibility for establishing, maintaining and monitoring intern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designates competent employee to be responsible for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, or those charged with governance, approve scope, risk and frequency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evaluates adequacy of procedures and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ings and recommendations are reported appropriately to those charged with gover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F56-C525-4034-B095-6F96320F61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 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ity of respondents support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ght respondents not suppor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ny audit client (2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 PIE audit client (3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if going to place significant reliance in external audi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s not sufficiently robus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s not sufficiently restrictive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968-0292-4A3B-A503-86FE0D7031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larity needed on definition/description of internal audi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951-2A82-45E2-863D-1D4AB8740F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aragraph describing internal audit activities – consistent with ISA 610 Auditor’s Consideration of the Internal Audit Fun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uidance on types of internal audit services that involve assuming a management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858-845E-4C98-BC9C-C7CDCD6AE0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n 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firm provides internal audit services, and results of the services will be used in the external audit, self-review threat created because of possibility results will be used without appropriate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ificance of threat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ity of related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material misstatement of assertions related to those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gree of re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C94-DEF8-4A5D-A518-19E3956C13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IESBA Direction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 provision of internal audit services for public interest audit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D23-758B-4B80-96CC-F103B1A0EF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3-05T11:23:05Z</dcterms:modified>
  <cp:revision>625</cp:revision>
  <dc:subject/>
  <dc:title>INTERNATIONAL FEDERATION OF ACCOUNTANTS</dc:title>
</cp:coreProperties>
</file>