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BD5-E620-465C-91C7-AF15A691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823-8F2A-42E6-9FEE-4CB8AD45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80B-D736-4BB6-B025-3DBA4778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ACE-14CB-499A-8867-7FB14611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5E9-2F33-41FD-8962-42D24AA9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DE4-B976-45D5-B028-E0E3EAF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7DC-31EE-4551-9539-32EF597B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97C-5B7A-4121-91DD-2B5DFA59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9F5-4EA3-4853-BC6A-9D9FEA68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14B-C278-4771-B225-E729B80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261-CC89-45F5-83D1-A653830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0FD-DDA9-4E56-BA19-434A7F41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FC68-FFF4-4605-8958-4301810DE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dependence II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e Winetrou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737-EA9D-4C7C-BADA-BB038678A0D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Task Force Proposal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m should not provide internal audit services that relate to internal accounting controls, financial systems or financial statements (does not preclude “operational” audi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m not precluded from providing a non-recurring internal audit service to evaluate a particular matter (e.g. assist in a fraud investigation), provided services otherwise permitted under Section 290 and conditions in 290.189 are 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B7B-8047-4AEA-B6FD-D698FDD587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Proposal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 PIEs – threats and safegu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s – If total fees &gt;15% for two years disclose to those charged with governance and eith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t issuance review by accountant who is not a member of the firm;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-issuance review by accountant who is not a member of the fi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s – In subsequent years in determining which of these safeguards should be applied consideration to be given to relative size of fee. At a minimum a post issuance review once every three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ECF-59C4-474F-9742-46913F6CE0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as to whether a bright-line test is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avor (elev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e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cessary for clarity and consistent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st (fourte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consistent with a conceptual framework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ht have a disproportionate impact on smaller firms and on firm concen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495-FB38-42EC-B853-060AA8CABE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losure to those charged with governance – general suppo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 and post issuance review – general support though some expressed the view that only a pre-issuance review was strong enough - some stated review could be performed by a regulatory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fficient guidance on size relative to partner or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5FB-6677-4B86-9FB2-2F7CBB8C87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ees Relative Size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the application of safeguards to the second year’s audit opin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e review could be performed by a professional regulatory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 firm to discuss with those charged with governance the safeguard that will be appl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fees significantly exceed 15% firm should determine whether pre-issuance review is the necessary safeguard (not-post issu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d guidance on size relative to partner or 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AD0-0A84-4500-A6EF-551B8899E70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an assurance service for a contingent f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a non-assurance service for an audit client i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ount of fee is material to the firm;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 is dependent upon the outcome of a future or contemporary audit judgment related to a material amount in the financial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3D2-9922-4416-8314-9C902535CEF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ly suppor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 respondents of view should not charge any contingent fee to an audit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respondents of view there should be specific guidance on t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respondents of view guidance should include prohibition on contingent fee arrangements between a firm and a third 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respondent of view should address contingent fees charged by a network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noted Section 291 not aligned to 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F16-087B-4CFC-B246-C558C87F5C6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tingent fees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 contingent fee cannot be charged directly or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d guidance to include a prohibition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firms that participate in a significant part of the audit from charging a material contingent fee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ontingent fee for non-assurance service where the  financial statement amounts are material and will be subject of significant future or contemporary audit jud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gn guidance in Section 291 with 290 on providing an assurance service for a contingent f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6FF-2CFD-497F-A24A-01C2890B478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9FD-4841-4847-AE8D-4D37F5CCC73C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ent period ended October 15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SBA discussed in January and plans to approve Apr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4 responses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l au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s relative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gent f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21E-F1D6-4A17-B461-6D2EC40B97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-review threat may be created when a firm provides internal audit services to an audit c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not perform management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F0E-718C-4CCA-8090-69A0496A53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Pos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only provide assistance to an audit client’s internal audit function i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acknowledges responsibility for establishing, maintaining and monitoring intern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designates competent employee to be responsible for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, or those charged with governance, approve scope, risk and frequency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evaluates adequacy of procedures and fi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ings and recommendations are reported appropriately to those charged with gover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36F-03E5-433E-B559-070407C8E1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Responses 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ity of respondents support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ght respondents not suppor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to any audit client (2 respon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to a PIE audit client (3 respons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internal audit if going to place significant reliance in external audit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guards not sufficiently robust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s not sufficiently restrictive (1 respon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7F5-BF00-47D3-90D7-0A34021555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ED Respons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larity needed on definition/description of internal audi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106-2431-42C1-939B-20F8D98712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Proposed Chang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aragraph describing internal audit activities – consistent with ISA 610 Auditor’s Consideration of the Internal Audit Fun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guidance on types of internal audit services that involve assuming a management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D23-1845-43A2-A2A9-D3CFB009F6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Proposed Changes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n 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firm provides internal audit services, and results of the services will be used in the external audit, self-review threat created because of possibility results will be used without appropriate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ificance of threat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ity of related financial statement am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 of material misstatement of assertions related to those financial statement amou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gree of re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9E4-F06B-4B1B-8BF9-AA470CC744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l Audit – IESBA Direction </a:t>
            </a:r>
            <a:br>
              <a:rPr sz="3200"/>
            </a:b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ublic Interest Entitie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 provision of internal audit services for public interest audit cl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847-A7CD-470A-B0A4-007960C8E4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3-05T11:23:05Z</dcterms:modified>
  <cp:revision>625</cp:revision>
  <dc:subject/>
  <dc:title>INTERNATIONAL FEDERATION OF ACCOUNTANTS</dc:title>
</cp:coreProperties>
</file>