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81416-EA19-452B-9E2A-0D89C3B4C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C0AB9-165D-4E1A-8D1C-DBC286020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707C1-DC02-42BE-A6FB-4FFA89167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6A63C-D3A1-46FC-A458-3CD53F83B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E00C1-CC7C-4664-97E0-506C6495B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4C391-CA89-4D81-9897-718E9E970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067F8-05D5-48C2-B9E5-AA890C1F3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38BC6-A147-4B02-BCF6-67F642D92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E3099-8C32-440E-B601-97862304F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B10AE-EC60-40C7-A63A-D0FF812C3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0766D-BE20-48DA-9341-78E1FC3DA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B4842-6D7D-41FB-A133-CCC6D87B8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4625D-2AF3-4987-A2F7-B7F614AF66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Rectangle 5"/>
          <p:cNvSpPr/>
          <p:nvPr/>
        </p:nvSpPr>
        <p:spPr>
          <a:xfrm>
            <a:off x="0" y="0"/>
            <a:ext cx="8877240" cy="177840"/>
          </a:xfrm>
          <a:prstGeom prst="rect">
            <a:avLst/>
          </a:prstGeom>
          <a:gradFill rotWithShape="0">
            <a:gsLst>
              <a:gs pos="0">
                <a:srgbClr val="00859a"/>
              </a:gs>
              <a:gs pos="100000">
                <a:srgbClr val="00282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0" y="6388200"/>
            <a:ext cx="8877240" cy="457200"/>
          </a:xfrm>
          <a:prstGeom prst="rect">
            <a:avLst/>
          </a:prstGeom>
          <a:gradFill rotWithShape="0">
            <a:gsLst>
              <a:gs pos="0">
                <a:srgbClr val="00859a"/>
              </a:gs>
              <a:gs pos="100000">
                <a:srgbClr val="00282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lick to edit the title text format</a:t>
            </a:r>
            <a:endParaRPr b="0" lang="en-US" sz="3200" spc="-1" strike="noStrike">
              <a:solidFill>
                <a:srgbClr val="ffe870"/>
              </a:solidFill>
              <a:latin typeface="Times New Roman"/>
            </a:endParaRPr>
          </a:p>
        </p:txBody>
      </p:sp>
      <p:sp>
        <p:nvSpPr>
          <p:cNvPr id="6"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7" name="Group 11"/>
          <p:cNvGrpSpPr/>
          <p:nvPr/>
        </p:nvGrpSpPr>
        <p:grpSpPr>
          <a:xfrm>
            <a:off x="8737560" y="0"/>
            <a:ext cx="393840" cy="6845400"/>
            <a:chOff x="8737560" y="0"/>
            <a:chExt cx="393840" cy="6845400"/>
          </a:xfrm>
        </p:grpSpPr>
        <p:sp>
          <p:nvSpPr>
            <p:cNvPr id="8" name="Rectangle 9"/>
            <p:cNvSpPr/>
            <p:nvPr/>
          </p:nvSpPr>
          <p:spPr>
            <a:xfrm>
              <a:off x="8737560" y="0"/>
              <a:ext cx="166680" cy="6845400"/>
            </a:xfrm>
            <a:prstGeom prst="rect">
              <a:avLst/>
            </a:prstGeom>
            <a:gradFill rotWithShape="0">
              <a:gsLst>
                <a:gs pos="0">
                  <a:srgbClr val="b2a24e"/>
                </a:gs>
                <a:gs pos="50000">
                  <a:srgbClr val="ffe870"/>
                </a:gs>
                <a:gs pos="100000">
                  <a:srgbClr val="b2a24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0"/>
            <p:cNvSpPr/>
            <p:nvPr/>
          </p:nvSpPr>
          <p:spPr>
            <a:xfrm>
              <a:off x="8964720" y="0"/>
              <a:ext cx="166680" cy="6845400"/>
            </a:xfrm>
            <a:prstGeom prst="rect">
              <a:avLst/>
            </a:prstGeom>
            <a:gradFill rotWithShape="0">
              <a:gsLst>
                <a:gs pos="0">
                  <a:srgbClr val="009c8d"/>
                </a:gs>
                <a:gs pos="50000">
                  <a:srgbClr val="00dfca"/>
                </a:gs>
                <a:gs pos="100000">
                  <a:srgbClr val="009c8d"/>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 name="Rectangle 12"/>
          <p:cNvSpPr/>
          <p:nvPr/>
        </p:nvSpPr>
        <p:spPr>
          <a:xfrm>
            <a:off x="125280" y="0"/>
            <a:ext cx="217800" cy="278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125280" y="0"/>
            <a:ext cx="90720" cy="2781360"/>
          </a:xfrm>
          <a:prstGeom prst="rect">
            <a:avLst/>
          </a:prstGeom>
          <a:gradFill rotWithShape="0">
            <a:gsLst>
              <a:gs pos="0">
                <a:srgbClr val="b2a24e"/>
              </a:gs>
              <a:gs pos="50000">
                <a:srgbClr val="ffe870"/>
              </a:gs>
              <a:gs pos="100000">
                <a:srgbClr val="b2a24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252360" y="0"/>
            <a:ext cx="90720" cy="2781360"/>
          </a:xfrm>
          <a:prstGeom prst="rect">
            <a:avLst/>
          </a:prstGeom>
          <a:gradFill rotWithShape="0">
            <a:gsLst>
              <a:gs pos="0">
                <a:srgbClr val="009c8d"/>
              </a:gs>
              <a:gs pos="50000">
                <a:srgbClr val="00dfca"/>
              </a:gs>
              <a:gs pos="100000">
                <a:srgbClr val="009c8d"/>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B2BE5-7322-44C7-B796-A55324C95D1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0"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Drafting Conventions</a:t>
            </a:r>
            <a:endParaRPr b="0" lang="en-US" sz="3200" spc="-1" strike="noStrike">
              <a:solidFill>
                <a:srgbClr val="ffe87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ESBA CAG March 2009</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n Dakdduk, TF Chair</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D3C61-EE9E-49E3-BAA3-7D46D71A6E0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Mergers and acquisitions</a:t>
            </a:r>
            <a:endParaRPr b="0" lang="en-US" sz="3200" spc="-1" strike="noStrike">
              <a:solidFill>
                <a:srgbClr val="ffe87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Task Force consulted with independence specialists to understand:</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Types of interests and relationships that create independence issues in an M&amp;A situa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Time typically available to address issu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Process of identifying new related entiti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Safeguards that can be put in place</a:t>
            </a:r>
            <a:endParaRPr b="0" lang="en-US" sz="2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E8483-F9FD-4C38-ACB8-8E7267B8C0F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Related entities</a:t>
            </a:r>
            <a:endParaRPr b="0" lang="en-US" sz="3200" spc="-1" strike="noStrike">
              <a:solidFill>
                <a:srgbClr val="ffe87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Code requires firm and network firms to be independent of the “audit client”</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When audit client is a listed entity</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Need to be independent of all related entities </a:t>
            </a:r>
            <a:endParaRPr b="0" lang="en-US" sz="28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When audit client is not a listed entity</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Need to be independent of related entities the client controls</a:t>
            </a: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53128-A109-430B-826E-4CC613C2077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Interests and relationships</a:t>
            </a:r>
            <a:endParaRPr b="0" lang="en-US" sz="3200" spc="-1" strike="noStrike">
              <a:solidFill>
                <a:srgbClr val="ffe87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ssues can be created by any of the interests or relationships covered by the Code</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Many can be safeguarded/terminated without significant difficulty</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Financial interests in a liquid market</a:t>
            </a:r>
            <a:endParaRPr b="0" lang="en-US" sz="20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Some pose challenge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No one can immediately take over; potentially lengthy period to find another provider, negotiate, and transfer arrangement</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Payroll services or software support services </a:t>
            </a:r>
            <a:endParaRPr b="0" lang="en-US" sz="18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A contingent fee arrangement that needs to be renegotiated  </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922E7-9FF7-424E-BBC6-FFA5E53A079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Time to address independence issue</a:t>
            </a:r>
            <a:endParaRPr b="0" lang="en-US" sz="3200" spc="-1" strike="noStrike">
              <a:solidFill>
                <a:srgbClr val="ffe870"/>
              </a:solidFill>
              <a:latin typeface="Times New Roman"/>
            </a:endParaRPr>
          </a:p>
        </p:txBody>
      </p:sp>
      <p:sp>
        <p:nvSpPr>
          <p:cNvPr id="87" name="PlaceHolder 2"/>
          <p:cNvSpPr>
            <a:spLocks noGrp="1"/>
          </p:cNvSpPr>
          <p:nvPr>
            <p:ph/>
          </p:nvPr>
        </p:nvSpPr>
        <p:spPr>
          <a:xfrm>
            <a:off x="533520" y="17524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fficient time is needed to:</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dentify relevant related entities and interests and relationship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ly safeguards or terminate interests or relationships</a:t>
            </a:r>
            <a:endParaRPr b="0" lang="en-US" sz="24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sufficient depends on the situation</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ze and number of related entitie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ypes of interests and relationship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fficulty in terminating</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ther more time is needed to find another service provider  or participant for a business relationship </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9100E-E613-4BE7-A110-64580C9C3CA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Time to address independence issues</a:t>
            </a:r>
            <a:endParaRPr b="0" lang="en-US" sz="3200" spc="-1" strike="noStrike">
              <a:solidFill>
                <a:srgbClr val="ffe870"/>
              </a:solidFill>
              <a:latin typeface="Times New Roman"/>
            </a:endParaRPr>
          </a:p>
        </p:txBody>
      </p:sp>
      <p:sp>
        <p:nvSpPr>
          <p:cNvPr id="90" name="PlaceHolder 2"/>
          <p:cNvSpPr>
            <a:spLocks noGrp="1"/>
          </p:cNvSpPr>
          <p:nvPr>
            <p:ph/>
          </p:nvPr>
        </p:nvSpPr>
        <p:spPr>
          <a:xfrm>
            <a:off x="533520" y="167652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Considered in context of a business environment more typical than recent time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Large acquisition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Generally have advance notice, but extent vari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Typically involve listed entities</a:t>
            </a:r>
            <a:endParaRPr b="0" lang="en-US" sz="24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Other acquisition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Can have less notic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Sometimes find out after the fact </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Lack of contact throughout the year</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F9B29-0AE3-4D50-A9DB-67425F6AEC2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Process of attaining independence</a:t>
            </a:r>
            <a:endParaRPr b="0" lang="en-US" sz="3200" spc="-1" strike="noStrike">
              <a:solidFill>
                <a:srgbClr val="ffe87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1.</a:t>
            </a:r>
            <a:r>
              <a:rPr b="0" lang="en-CA" sz="2800" spc="-1" strike="noStrike">
                <a:solidFill>
                  <a:srgbClr val="ffffff"/>
                </a:solidFill>
                <a:latin typeface="Times New Roman"/>
              </a:rPr>
              <a:t>	</a:t>
            </a:r>
            <a:r>
              <a:rPr b="0" lang="en-CA" sz="2800" spc="-1" strike="noStrike">
                <a:solidFill>
                  <a:srgbClr val="ffffff"/>
                </a:solidFill>
                <a:latin typeface="Times New Roman"/>
              </a:rPr>
              <a:t>Identify entities that will become related entities</a:t>
            </a:r>
            <a:endParaRPr b="0" lang="en-US" sz="28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Can be lengthy process for client and firm</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Can require several weeks for large companies</a:t>
            </a:r>
            <a:endParaRPr b="0" lang="en-US" sz="2400" spc="-1" strike="noStrike">
              <a:solidFill>
                <a:srgbClr val="ffffff"/>
              </a:solidFill>
              <a:latin typeface="Times New Roman"/>
            </a:endParaRPr>
          </a:p>
          <a:p>
            <a:pPr lvl="2" marL="1371600" indent="-4572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Particularly for some financial services companies</a:t>
            </a:r>
            <a:endParaRPr b="0" lang="en-US" sz="20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Need to determine whether entities meet the definition of a related entity</a:t>
            </a:r>
            <a:endParaRPr b="0" lang="en-US" sz="2400" spc="-1" strike="noStrike">
              <a:solidFill>
                <a:srgbClr val="ffffff"/>
              </a:solidFill>
              <a:latin typeface="Times New Roman"/>
            </a:endParaRPr>
          </a:p>
          <a:p>
            <a:pPr lvl="2" marL="1371600" indent="-4572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Control – upstream, downstream, and common (listed entities); downstream (nonlisted entities)</a:t>
            </a:r>
            <a:endParaRPr b="0" lang="en-US" sz="2000" spc="-1" strike="noStrike">
              <a:solidFill>
                <a:srgbClr val="ffffff"/>
              </a:solidFill>
              <a:latin typeface="Times New Roman"/>
            </a:endParaRPr>
          </a:p>
          <a:p>
            <a:pPr lvl="2" marL="1371600" indent="-4572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Materiality of client to upstream controlling entities (listed entities)</a:t>
            </a:r>
            <a:endParaRPr b="0" lang="en-US" sz="2000" spc="-1" strike="noStrike">
              <a:solidFill>
                <a:srgbClr val="ffffff"/>
              </a:solidFill>
              <a:latin typeface="Times New Roman"/>
            </a:endParaRPr>
          </a:p>
          <a:p>
            <a:pPr lvl="2" marL="1371600" indent="-4572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Significant influence and materiality</a:t>
            </a:r>
            <a:endParaRPr b="0" lang="en-US" sz="2000" spc="-1" strike="noStrike">
              <a:solidFill>
                <a:srgbClr val="ffffff"/>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AA51C-AD7E-469B-9467-C4A86673571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Process of attaining independence</a:t>
            </a:r>
            <a:endParaRPr b="0" lang="en-US" sz="3200" spc="-1" strike="noStrike">
              <a:solidFill>
                <a:srgbClr val="ffe87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2.</a:t>
            </a:r>
            <a:r>
              <a:rPr b="0" lang="en-CA" sz="2800" spc="-1" strike="noStrike">
                <a:solidFill>
                  <a:srgbClr val="ffffff"/>
                </a:solidFill>
                <a:latin typeface="Times New Roman"/>
              </a:rPr>
              <a:t>	</a:t>
            </a:r>
            <a:r>
              <a:rPr b="0" lang="en-CA" sz="2800" spc="-1" strike="noStrike">
                <a:solidFill>
                  <a:srgbClr val="ffffff"/>
                </a:solidFill>
                <a:latin typeface="Times New Roman"/>
              </a:rPr>
              <a:t>Identify interests and relationships:</a:t>
            </a:r>
            <a:endParaRPr b="0" lang="en-US" sz="28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Firm and network firm interests and relationships</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nformation about non-assurance services to non-assurance clients generally not maintained at the network level</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Can be a lengthy process for the client and firm</a:t>
            </a:r>
            <a:endParaRPr b="0" lang="en-US" sz="24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3.</a:t>
            </a:r>
            <a:r>
              <a:rPr b="0" lang="en-CA" sz="2800" spc="-1" strike="noStrike">
                <a:solidFill>
                  <a:srgbClr val="ffffff"/>
                </a:solidFill>
                <a:latin typeface="Times New Roman"/>
              </a:rPr>
              <a:t>	</a:t>
            </a:r>
            <a:r>
              <a:rPr b="0" lang="en-CA" sz="2800" spc="-1" strike="noStrike">
                <a:solidFill>
                  <a:srgbClr val="ffffff"/>
                </a:solidFill>
                <a:latin typeface="Times New Roman"/>
              </a:rPr>
              <a:t>Terminate interests and relationships that are not permitted under the Code</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4.</a:t>
            </a:r>
            <a:r>
              <a:rPr b="0" lang="en-CA" sz="2800" spc="-1" strike="noStrike">
                <a:solidFill>
                  <a:srgbClr val="ffffff"/>
                </a:solidFill>
                <a:latin typeface="Times New Roman"/>
              </a:rPr>
              <a:t>	</a:t>
            </a:r>
            <a:r>
              <a:rPr b="0" lang="en-CA" sz="2800" spc="-1" strike="noStrike">
                <a:solidFill>
                  <a:srgbClr val="ffffff"/>
                </a:solidFill>
                <a:latin typeface="Times New Roman"/>
              </a:rPr>
              <a:t>Apply safeguards, where necessary, for other interests or relationships</a:t>
            </a:r>
            <a:endParaRPr b="0" lang="en-US" sz="2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8600-3E07-4402-9BC8-6C3F8B40C14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IESBA Position</a:t>
            </a:r>
            <a:endParaRPr b="0" lang="en-US" sz="3200" spc="-1" strike="noStrike">
              <a:solidFill>
                <a:srgbClr val="ffe87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Provide guidance to deal with client M&amp;A</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Reinforce requirement to comply with Cod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Guide firms and clients when additional time after effective date is needed to terminate an I/R</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12 respondents to the ED recommended Code include such guidance</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Particularly in light of proposed new drafting conventions</a:t>
            </a:r>
            <a:endParaRPr b="0" lang="en-US" sz="20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Not in public interest for firms to resign as auditor in every case</a:t>
            </a:r>
            <a:endParaRPr b="0" lang="en-US" sz="24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0A3E0-F684-4CE0-8D12-634E34E431F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Addressing interests and relationships</a:t>
            </a:r>
            <a:endParaRPr b="0" lang="en-US" sz="3200" spc="-1" strike="noStrike">
              <a:solidFill>
                <a:srgbClr val="ffe87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Firms shall identify and evaluate previous and current interests and relationships with the related entity</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Take necessary steps to terminate by effective date any current interests and relationships that are not permitted by the Code</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BD239-34C1-4814-9936-67DDB95558C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If interest/relationship cannot reasonably be terminated </a:t>
            </a:r>
            <a:endParaRPr b="0" lang="en-US" sz="3200" spc="-1" strike="noStrike">
              <a:solidFill>
                <a:srgbClr val="ffe87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Evaluate significance of the threat</a:t>
            </a:r>
            <a:endParaRPr b="0" lang="en-US" sz="2400" spc="-1" strike="noStrike">
              <a:solidFill>
                <a:srgbClr val="ffffff"/>
              </a:solidFill>
              <a:latin typeface="Times New Roman"/>
            </a:endParaRPr>
          </a:p>
          <a:p>
            <a:pPr marL="291960" indent="-291960">
              <a:lnSpc>
                <a:spcPct val="8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More significant the threat, more likely firm cannot continue as auditor</a:t>
            </a:r>
            <a:endParaRPr b="0" lang="en-US" sz="2400" spc="-1" strike="noStrike">
              <a:solidFill>
                <a:srgbClr val="ffffff"/>
              </a:solidFill>
              <a:latin typeface="Times New Roman"/>
            </a:endParaRPr>
          </a:p>
          <a:p>
            <a:pPr marL="291960" indent="-291960">
              <a:lnSpc>
                <a:spcPct val="8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Significance depends on:</a:t>
            </a:r>
            <a:endParaRPr b="0" lang="en-US" sz="24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Nature &amp; significance of relationship</a:t>
            </a:r>
            <a:endParaRPr b="0" lang="en-US" sz="2000" spc="-1" strike="noStrike">
              <a:solidFill>
                <a:srgbClr val="ffffff"/>
              </a:solidFill>
              <a:latin typeface="Times New Roman"/>
            </a:endParaRPr>
          </a:p>
          <a:p>
            <a:pPr lvl="2" marL="1143000" indent="-228600">
              <a:lnSpc>
                <a:spcPct val="8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Type of non-assurance service or business relationship</a:t>
            </a:r>
            <a:endParaRPr b="0" lang="en-US" sz="18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Nature &amp; significance of related entity relationship</a:t>
            </a:r>
            <a:endParaRPr b="0" lang="en-US" sz="2000" spc="-1" strike="noStrike">
              <a:solidFill>
                <a:srgbClr val="ffffff"/>
              </a:solidFill>
              <a:latin typeface="Times New Roman"/>
            </a:endParaRPr>
          </a:p>
          <a:p>
            <a:pPr lvl="2" marL="1143000" indent="-228600">
              <a:lnSpc>
                <a:spcPct val="8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Parent, subsidiary, or sister entity</a:t>
            </a:r>
            <a:endParaRPr b="0" lang="en-US" sz="18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Length of time until interest or relationship can reasonably be terminated</a:t>
            </a:r>
            <a:endParaRPr b="0" lang="en-US" sz="2000" spc="-1" strike="noStrike">
              <a:solidFill>
                <a:srgbClr val="ffffff"/>
              </a:solidFill>
              <a:latin typeface="Times New Roman"/>
            </a:endParaRPr>
          </a:p>
          <a:p>
            <a:pPr marL="291960" indent="-291960">
              <a:lnSpc>
                <a:spcPct val="8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The evaluation is discussed with those charged with governance</a:t>
            </a:r>
            <a:endParaRPr b="0" lang="en-US" sz="2400" spc="-1" strike="noStrike">
              <a:solidFill>
                <a:srgbClr val="ffffff"/>
              </a:solidFill>
              <a:latin typeface="Times New Roman"/>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75840-18D3-4099-A8D5-DC023EA16C6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roject Status</a:t>
            </a:r>
            <a:endParaRPr b="0" lang="en-US" sz="3200" spc="-1" strike="noStrike">
              <a:solidFill>
                <a:srgbClr val="ffe87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20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osure draft issued July 2008</a:t>
            </a:r>
            <a:endParaRPr b="0" lang="en-US" sz="3200" spc="-1" strike="noStrike">
              <a:solidFill>
                <a:srgbClr val="ffffff"/>
              </a:solidFill>
              <a:latin typeface="Times New Roman"/>
            </a:endParaRPr>
          </a:p>
          <a:p>
            <a:pPr marL="291960" indent="-291960">
              <a:spcBef>
                <a:spcPts val="20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G discussion Sept and Nov 2008</a:t>
            </a:r>
            <a:endParaRPr b="0" lang="en-US" sz="3200" spc="-1" strike="noStrike">
              <a:solidFill>
                <a:srgbClr val="ffffff"/>
              </a:solidFill>
              <a:latin typeface="Times New Roman"/>
            </a:endParaRPr>
          </a:p>
          <a:p>
            <a:pPr marL="291960" indent="-291960">
              <a:spcBef>
                <a:spcPts val="20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ESBA discussion Dec 2008 and Feb 2009</a:t>
            </a:r>
            <a:endParaRPr b="0" lang="en-US" sz="3200" spc="-1" strike="noStrike">
              <a:solidFill>
                <a:srgbClr val="ffffff"/>
              </a:solidFill>
              <a:latin typeface="Times New Roman"/>
            </a:endParaRPr>
          </a:p>
          <a:p>
            <a:pPr marL="291960" indent="-291960">
              <a:spcBef>
                <a:spcPts val="20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val targeted April 2009 </a:t>
            </a:r>
            <a:endParaRPr b="0" lang="en-US" sz="3200" spc="-1" strike="noStrike">
              <a:solidFill>
                <a:srgbClr val="ffffff"/>
              </a:solidFill>
              <a:latin typeface="Times New Roman"/>
            </a:endParaRPr>
          </a:p>
          <a:p>
            <a:pPr marL="29196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96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BE966-D55D-43B6-BADD-346E499A1C4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a:t>
            </a:r>
            <a:r>
              <a:rPr b="0" lang="en-CA" sz="3200" spc="-1" strike="noStrike">
                <a:solidFill>
                  <a:srgbClr val="ffe870"/>
                </a:solidFill>
                <a:latin typeface="Times New Roman"/>
              </a:rPr>
              <a:t>Cannot reasonably be terminated”</a:t>
            </a:r>
            <a:endParaRPr b="0" lang="en-US" sz="3200" spc="-1" strike="noStrike">
              <a:solidFill>
                <a:srgbClr val="ffe87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Firm and  client should make all reasonable efforts to terminate the interest or relationship</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Cannot delay termination merely because it is inconvenient</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Factors considered by Task Force:</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Disruption of service would be harmful to those who rely on the service </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As might be the case in payroll and related tax services or software support services</a:t>
            </a:r>
            <a:endParaRPr b="0" lang="en-US" sz="18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Related entity needs time after the effective date to identify alternative service providers and contract with new provider</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Firm needs time to transition to new service provider</a:t>
            </a:r>
            <a:endParaRPr b="0" lang="en-US" sz="1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ACA26-0FF0-4149-B61C-5CECE80DF74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Period of time</a:t>
            </a:r>
            <a:endParaRPr b="0" lang="en-US" sz="3200" spc="-1" strike="noStrike">
              <a:solidFill>
                <a:srgbClr val="ffe87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If interest or relationship cannot reasonably be terminated by effective date</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Terminate as soon as possible within next 6 month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n no event may interest or relationship continue for more than 6 months after effective date</a:t>
            </a:r>
            <a:endParaRPr b="0" lang="en-US" sz="24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Limited period of time and transitional measures provides appropriate balance between:</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Need for firm to comply as soon as possible to protect public interest; and</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Avoiding needless costs, including market disruption, because of forced, unplanned change of auditors</a:t>
            </a:r>
            <a:endParaRPr b="0" lang="en-US" sz="2400" spc="-1" strike="noStrike">
              <a:solidFill>
                <a:srgbClr val="ffffff"/>
              </a:solidFill>
              <a:latin typeface="Times New Roman"/>
            </a:endParaRPr>
          </a:p>
          <a:p>
            <a:pPr marL="291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6FB67-0702-4FA9-9DDD-07858A22E2E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Other requirements</a:t>
            </a:r>
            <a:endParaRPr b="0" lang="en-US" sz="3200" spc="-1" strike="noStrike">
              <a:solidFill>
                <a:srgbClr val="ffe87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No individual with the interest or relationship may be member of engagement team for the audit or the QC reviewer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Includes any individual providing the non-assurance service </a:t>
            </a:r>
            <a:endParaRPr b="0" lang="en-US" sz="28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Transitional measures to be considered and applied as necessary.</a:t>
            </a:r>
            <a:endParaRPr b="0" lang="en-US" sz="3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FDCED-67DD-492E-8B47-4114A89FE2F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If firm will be replaced as auditor shortly after the merger or acquisition</a:t>
            </a:r>
            <a:endParaRPr b="0" lang="en-US" sz="3200" spc="-1" strike="noStrike">
              <a:solidFill>
                <a:srgbClr val="ffe87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Not necessary to terminate the interest or relationship if all of the following conditions are met:</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Client requests firm to remain as auditor;</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Firm will remain as auditor only for a short period of time and only until the next audit report is issued;</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No individuals with such interest or relationship are members of the engagement team or the QC reviewer for the audit;</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Includes any individual providing the non-assurance service; </a:t>
            </a:r>
            <a:endParaRPr b="0" lang="en-US" sz="18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Transitional measures are applied as necessary;</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The matter is discussed with those charged with governance</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965A0-8E29-4EDB-82EB-E9A2DF5B9D2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Transitional measures</a:t>
            </a:r>
            <a:endParaRPr b="0" lang="en-US" sz="3200" spc="-1" strike="noStrike">
              <a:solidFill>
                <a:srgbClr val="ffe87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Review of audit or non-assurance work by a professional accountant</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Review equivalent to an EQCR performed by a professional accountant not a member of the firm signing the opinion</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Evaluation of results of non-assurance service by another firm or another firm re-performs non-assurance service to extent necessary to take responsibility for service</a:t>
            </a:r>
            <a:endParaRPr b="0" lang="en-US" sz="2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B7612-D1ED-4352-9696-4AAA3ACAEE5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Discussion with those charged with governance</a:t>
            </a:r>
            <a:endParaRPr b="0" lang="en-US" sz="3200" spc="-1" strike="noStrike">
              <a:solidFill>
                <a:srgbClr val="ffe87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Reasons why any interest or relationship will not be terminated by the effective dat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Transitional measures, if any, to be applied</a:t>
            </a:r>
            <a:endParaRPr b="0" lang="en-US" sz="3200" spc="-1" strike="noStrike">
              <a:solidFill>
                <a:srgbClr val="ffffff"/>
              </a:solidFill>
              <a:latin typeface="Times New Roman"/>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B7C37-0260-4450-BCDD-65A8AFE6194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Overall consideration</a:t>
            </a:r>
            <a:endParaRPr b="0" lang="en-US" sz="3200" spc="-1" strike="noStrike">
              <a:solidFill>
                <a:srgbClr val="ffe87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Even if all the foregoing requirements can be me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Firm shall determine whether threats created by previous and current interests and relationships would remain so significant that independence would be compromised</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f so, firm shall resign as auditor</a:t>
            </a:r>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DF3D9-983E-4A70-AB0C-48625C61D00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Documentation</a:t>
            </a:r>
            <a:endParaRPr b="0" lang="en-US" sz="3200" spc="-1" strike="noStrike">
              <a:solidFill>
                <a:srgbClr val="ffe87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Any interests or relationships that will not be terminated by the effective dat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The reasons why the interest or relationship will not be terminated</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Transitional measures, if any, to be applied</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Results of discussion with those charged with governance</a:t>
            </a:r>
            <a:endParaRPr b="0" lang="en-US" sz="3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A2E77-25C3-4C66-BF74-8C252FC28C5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Other matters</a:t>
            </a:r>
            <a:endParaRPr b="0" lang="en-US" sz="3200" spc="-1" strike="noStrike">
              <a:solidFill>
                <a:srgbClr val="ffe87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Interest or relationship must be terminated as soon as reasonably possible within next 6 month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f not terminated, firm would not be independent</a:t>
            </a:r>
            <a:endParaRPr b="0" lang="en-US" sz="24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New information about an interest or relationship may surface after the end of the 6-month period</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Should be addressed in the same way as other inadvertent violations</a:t>
            </a:r>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FBBFB-D580-473B-B815-7CFE4F62165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Inadvertent violations</a:t>
            </a:r>
            <a:endParaRPr b="0" lang="en-US" sz="3200" spc="-1" strike="noStrike">
              <a:solidFill>
                <a:srgbClr val="ffe87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Under ¶290.34, if an inadvertent violation occurs, it will generally not be deemed to compromise independence  if:</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Firm has appropriate quality control policies and procedures in place to maintain independenc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Once discovered violation is corrected promptly; an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Any necessary safeguards are applied to eliminate the threat or reduce it to an acceptable level</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85ACD-EC7D-4991-B175-BE7E3A1E68C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Activities since November CAG</a:t>
            </a:r>
            <a:endParaRPr b="0" lang="en-US" sz="3200" spc="-1" strike="noStrike">
              <a:solidFill>
                <a:srgbClr val="ffe87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dered:</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ception claus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advertent violation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a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ffective dat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of “shall”</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letter comments</a:t>
            </a:r>
            <a:endParaRPr b="0" lang="en-US" sz="28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95C84-6D23-499A-A78F-C391AB96F6B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Inadvertent violations (cont’d)</a:t>
            </a:r>
            <a:endParaRPr b="0" lang="en-US" sz="3200" spc="-1" strike="noStrike">
              <a:solidFill>
                <a:srgbClr val="ffe87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This paragraph was not changed as part of the drafting conventions project</a:t>
            </a:r>
            <a:endParaRPr b="0" lang="en-US" sz="3200" spc="-1" strike="noStrike">
              <a:solidFill>
                <a:srgbClr val="ffffff"/>
              </a:solidFill>
              <a:latin typeface="Times New Roman"/>
            </a:endParaRPr>
          </a:p>
          <a:p>
            <a:pPr marL="291960" indent="-291960">
              <a:lnSpc>
                <a:spcPct val="90000"/>
              </a:lnSpc>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One respondent (IOSCO) commented on it</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Recommended introducing a materiality test</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Such a revision would be beyond the scope of this project</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However, materiality is likely be part of the assessment to determine appropriate safeguards to apply</a:t>
            </a:r>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323C1-7669-49CF-9267-C1115BB9B83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Inadvertent violations (cont’d)</a:t>
            </a:r>
            <a:endParaRPr b="0" lang="en-US" sz="3200" spc="-1" strike="noStrike">
              <a:solidFill>
                <a:srgbClr val="ffe87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Respondent also recommended that “inadvertent” be defined</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IESBA view:</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Definition is not needed; meaning is consistent with general usage (e.g., “unintentional,” “in error,” “by mistak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Any changes to the inadvertent violation clause would go beyond clarity</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9EB2B-D03D-4446-9BC7-B856B510FE2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advertent violations (cont’d)</a:t>
            </a:r>
            <a:endParaRPr b="0" lang="en-US" sz="3200" spc="-1" strike="noStrike">
              <a:solidFill>
                <a:srgbClr val="ffe87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ISQC1 requires firms to establish policies and procedures to provide reasonable assurance that independence is maintained</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Paragraph will be clarified by explicit reference to ISQC</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e., “. . .appropriate QC policies and procedures . . . </a:t>
            </a:r>
            <a:r>
              <a:rPr b="0" lang="en-CA" sz="2400" spc="-1" strike="noStrike" u="sng">
                <a:solidFill>
                  <a:srgbClr val="ffffff"/>
                </a:solidFill>
                <a:uFillTx/>
                <a:latin typeface="Times New Roman"/>
              </a:rPr>
              <a:t>equivalent to those required by International Standards on Quality Control</a:t>
            </a:r>
            <a:r>
              <a:rPr b="0" lang="en-CA" sz="2400" spc="-1" strike="noStrike">
                <a:solidFill>
                  <a:srgbClr val="ffffff"/>
                </a:solidFill>
                <a:latin typeface="Times New Roman"/>
              </a:rPr>
              <a:t> to maintain independence . . .”</a:t>
            </a:r>
            <a:endParaRPr b="0" lang="en-US" sz="24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40D6D-4B30-457E-B1B8-9122F1BCB31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Documentation</a:t>
            </a:r>
            <a:endParaRPr b="0" lang="en-US" sz="3200" spc="-1" strike="noStrike">
              <a:solidFill>
                <a:srgbClr val="ffe87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In December, the IESBA discussed the requirement to document threats “at the margin”</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IESBA was concerned the proposed language was too broad</a:t>
            </a:r>
            <a:endParaRPr b="0" lang="en-US" sz="32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EA441-5193-41FB-8E9B-741F8B79B39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Documentation</a:t>
            </a:r>
            <a:endParaRPr b="0" lang="en-US" sz="3200" spc="-1" strike="noStrike">
              <a:solidFill>
                <a:srgbClr val="ffe87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safeguards are required to reduce a threat to an acceptable level, the documentation shall include the nature of the threat and the safeguards that reduce the threat to an acceptable level</a:t>
            </a:r>
            <a:endParaRPr b="0" lang="en-US" sz="2400" spc="-1" strike="noStrike">
              <a:solidFill>
                <a:srgbClr val="ffffff"/>
              </a:solidFill>
              <a:latin typeface="Times New Roman"/>
            </a:endParaRPr>
          </a:p>
          <a:p>
            <a:pPr marL="288720" indent="-28872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a threat is such that the professional accountant considered whether safeguards were necessary and concluded that they were not because the threat was already at an acceptable level, the documentation shall include the</a:t>
            </a:r>
            <a:endParaRPr b="0" lang="en-US" sz="2400" spc="-1" strike="noStrike">
              <a:solidFill>
                <a:srgbClr val="ffffff"/>
              </a:solidFill>
              <a:latin typeface="Times New Roman"/>
            </a:endParaRPr>
          </a:p>
          <a:p>
            <a:pPr lvl="1" marL="735480" indent="-282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ure of the threat</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Conclusion that safeguards were not necessary</a:t>
            </a:r>
            <a:r>
              <a:rPr b="0" lang="en-CA" sz="2000" spc="-1" strike="noStrike">
                <a:solidFill>
                  <a:srgbClr val="ffffff"/>
                </a:solidFill>
                <a:latin typeface="Times New Roman"/>
              </a:rPr>
              <a:t>	</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Rationale for the conclusion</a:t>
            </a:r>
            <a:endParaRPr b="0" lang="en-US" sz="20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9737F-367B-4CAD-B520-D5B3A5AD0EC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Effective date</a:t>
            </a:r>
            <a:endParaRPr b="0" lang="en-US" sz="3200" spc="-1" strike="noStrike">
              <a:solidFill>
                <a:srgbClr val="ffe87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Exposure draft proposed point in time effective dat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Effective December 15, 2010, subject to transitional provisions, with earlier adoption encouraged</a:t>
            </a:r>
            <a:endParaRPr b="0" lang="en-US" sz="28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Effective date based on proposed June 2009 release </a:t>
            </a:r>
            <a:endParaRPr b="0" lang="en-US" sz="3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9E6AD-A8AE-4928-A8F1-92E02EFACFE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ED comments on effective date</a:t>
            </a:r>
            <a:endParaRPr b="0" lang="en-US" sz="3200" spc="-1" strike="noStrike">
              <a:solidFill>
                <a:srgbClr val="ffe87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Majority supported point in time effective date</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Minority believe that effective date should be linked to the client’s fiscal period</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One respondent preferred an earlier effective date </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Wants IT1 &amp; IT2 to be applied sooner</a:t>
            </a:r>
            <a:endParaRPr b="0" lang="en-US" sz="24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One respondent recommended that effective date of Jan 1, 2011 would be easier to implement</a:t>
            </a:r>
            <a:endParaRPr b="0" lang="en-US" sz="2800" spc="-1" strike="noStrike">
              <a:solidFill>
                <a:srgbClr val="ffffff"/>
              </a:solidFill>
              <a:latin typeface="Times New Roman"/>
            </a:endParaRPr>
          </a:p>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0DEF2-65C1-41E3-B2E4-EAF51075A16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IESBA Position – effective date</a:t>
            </a:r>
            <a:endParaRPr b="0" lang="en-US" sz="3200" spc="-1" strike="noStrike">
              <a:solidFill>
                <a:srgbClr val="ffe87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Point in time appropriate for most of the Cod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Simpler to move effective date to January 1, 2011, with non-assurance services to be completed by July 1, 2011</a:t>
            </a:r>
            <a:endParaRPr b="0" lang="en-US" sz="32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70495-ECA7-4729-AAF5-376AA4ED370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IESBA Position – effective date (cont’d)</a:t>
            </a:r>
            <a:endParaRPr b="0" lang="en-US" sz="3200" spc="-1" strike="noStrike">
              <a:solidFill>
                <a:srgbClr val="ffe87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Partner rotatio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One respondent’s comments suggest it is not clear how the point in time effective date would apply</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KAP (other than engagement partner/QC reviewer) would be required to rotate on December 15, 2011</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Can the KAP complete the 2011 audit in 2012?</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Is 2010 the KAP’s last year-end audit? </a:t>
            </a:r>
            <a:endParaRPr b="0" lang="en-US" sz="20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IESBA position - tie to client’s fiscal year</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Fiscal periods beginning on or after December 15, 2011</a:t>
            </a:r>
            <a:endParaRPr b="0" lang="en-US" sz="2400" spc="-1" strike="noStrike">
              <a:solidFill>
                <a:srgbClr val="ffffff"/>
              </a:solidFill>
              <a:latin typeface="Times New Roman"/>
            </a:endParaRPr>
          </a:p>
          <a:p>
            <a:pPr marL="291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076F0-2C8A-411C-8091-1269004D89B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ED transitional provisions</a:t>
            </a:r>
            <a:endParaRPr b="0" lang="en-US" sz="3200" spc="-1" strike="noStrike">
              <a:solidFill>
                <a:srgbClr val="ffe87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Partner rotation – one extra year for those individuals that previously were not required to rotate (new key audit partner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Public Interest Entities – one extra year for entities that are not public interest entitie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Provision of non-assurance services – an extra six months to complete newly prohibited non-assurance services that were contracted for before the effective date</a:t>
            </a: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7399E-DE18-4BB5-A141-3AE84FD44DC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Exception clause</a:t>
            </a:r>
            <a:endParaRPr b="0" lang="en-US" sz="3200" spc="-1" strike="noStrike">
              <a:solidFill>
                <a:srgbClr val="ffe87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IESBA considered exception clause under three categorie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Catastrophic events</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Natural disasters</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Terrorist acts</a:t>
            </a: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Mergers and acquisitions</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Audit client acquires another entity or is acquired by another entity</a:t>
            </a: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All other situations</a:t>
            </a:r>
            <a:endParaRPr b="0" lang="en-US" sz="2800" spc="-1" strike="noStrike">
              <a:solidFill>
                <a:srgbClr val="ffffff"/>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DB4C-55D8-4E87-A2D0-21796FC68D8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ED comments on transitional provisions</a:t>
            </a:r>
            <a:endParaRPr b="0" lang="en-US" sz="3200" spc="-1" strike="noStrike">
              <a:solidFill>
                <a:srgbClr val="ffe87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Majority supported transitional provisions</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Minority view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Transitional provision for partner rotation is not necessary</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Transitional provision for non-assurance services is not necessary</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Transitional provision for non-assurance services should allow 12 months to complete in exceptional circumstance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Should be a “fresh-start” for provisions when PIE fees &gt;15%</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Concern with transitional periods that produce different effective dates</a:t>
            </a:r>
            <a:endParaRPr b="0" lang="en-US" sz="20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2E687-41E3-4B5B-A763-0F08A8CC742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IESBA Position – Transitional provisions</a:t>
            </a:r>
            <a:endParaRPr b="0" lang="en-US" sz="3200" spc="-1" strike="noStrike">
              <a:solidFill>
                <a:srgbClr val="ffe87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Fees exceed 15%</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Without a “fresh-start” the change would be applied retroactively</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Should be explicit that a “fresh-start” approach is to be taken</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Should also be linked to the client’s fiscal year</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Assuming a client had a Dec 31</a:t>
            </a:r>
            <a:r>
              <a:rPr b="0" lang="en-CA" sz="2400" spc="-1" strike="noStrike" baseline="30000">
                <a:solidFill>
                  <a:srgbClr val="ffffff"/>
                </a:solidFill>
                <a:latin typeface="Times New Roman"/>
              </a:rPr>
              <a:t>st</a:t>
            </a:r>
            <a:r>
              <a:rPr b="0" lang="en-CA" sz="2400" spc="-1" strike="noStrike">
                <a:solidFill>
                  <a:srgbClr val="ffffff"/>
                </a:solidFill>
                <a:latin typeface="Times New Roman"/>
              </a:rPr>
              <a:t> year-end, a pre-or post issuance review would be required in relation to the 2012 audit if fees exceed 15% for 2011 and 2012</a:t>
            </a:r>
            <a:endParaRPr b="0" lang="en-US" sz="2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47847-D5B5-4356-B8B0-E4B7AB3E5D8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IESBA Position – Transitional provisions</a:t>
            </a:r>
            <a:endParaRPr b="0" lang="en-US" sz="3200" spc="-1" strike="noStrike">
              <a:solidFill>
                <a:srgbClr val="ffe87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ED proposed that early adoption be encouraged</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Some respondents stated effective date was ambitiou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Some member bodies and firms may need the full 18 months to effect an orderly implementation of the change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Preferable to have the more neutral statement that early adoption is permitted</a:t>
            </a:r>
            <a:endParaRPr b="0" lang="en-US" sz="2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95A98-B248-43C3-A020-9376838AA60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Principles/Rule and use of “shall”</a:t>
            </a:r>
            <a:endParaRPr b="0" lang="en-US" sz="3200" spc="-1" strike="noStrike">
              <a:solidFill>
                <a:srgbClr val="ffe87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In December, IESBA agreed Task Force should review usage of “shall” with view to determining that each usage is appropriat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Task Force reviewed Code and proposed limited changes to use “shall” only to denote a requirement</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IESBA agreed with Task Force’s proposal</a:t>
            </a:r>
            <a:endParaRPr b="0" lang="en-US" sz="32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71ADC-6706-471F-A2B9-254308EF2B0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Re-exposure – Due process requirements</a:t>
            </a:r>
            <a:endParaRPr b="0" lang="en-US" sz="3200" spc="-1" strike="noStrike">
              <a:solidFill>
                <a:srgbClr val="ffe87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After approving revised content, IESBA required to assess whether there is substantive change that warrants re-exposure. For example: </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Changes arising from matters not aired in the ED</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Commentators have not had an opportunity to make views known</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Changes arising from matters not previously deliberated by the IESBA</a:t>
            </a:r>
            <a:endParaRPr b="0" lang="en-US" sz="24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EA09F-33BC-4808-BE44-0322B79102E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Re-exposure – IESBA preliminary discussion</a:t>
            </a:r>
            <a:endParaRPr b="0" lang="en-US" sz="3200" spc="-1" strike="noStrike">
              <a:solidFill>
                <a:srgbClr val="ffe87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Many Board members expressed the view that re-exposure is not warranted</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Many respondents expressed view Code should address M&amp;A</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Board is doing so</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M&amp;A clause provides pragmatic guidance</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Generally codifies best practice</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n most cases firm’s will be able to terminate I/R by effective date</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M&amp;A clause is not likely to be used in every M&amp;A case</a:t>
            </a:r>
            <a:endParaRPr b="0" lang="en-US" sz="2000" spc="-1" strike="noStrike">
              <a:solidFill>
                <a:srgbClr val="ffffff"/>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DED36-15E4-4FB1-945C-152FE8F1475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5"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Discussion</a:t>
            </a:r>
            <a:endParaRPr b="0" lang="en-US" sz="3200" spc="-1" strike="noStrike">
              <a:solidFill>
                <a:srgbClr val="ffe870"/>
              </a:solidFill>
              <a:latin typeface="Times New Roman"/>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DEC0F-DB14-48EA-B286-F58782C9E6C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Category 1 – Catastrophic events</a:t>
            </a:r>
            <a:endParaRPr b="0" lang="en-US" sz="3200" spc="-1" strike="noStrike">
              <a:solidFill>
                <a:srgbClr val="ffe87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Code not written for such situations</a:t>
            </a:r>
            <a:endParaRPr b="0" lang="en-US" sz="3200" spc="-1" strike="noStrike">
              <a:solidFill>
                <a:srgbClr val="ffffff"/>
              </a:solidFill>
              <a:latin typeface="Times New Roman"/>
            </a:endParaRPr>
          </a:p>
          <a:p>
            <a:pPr marL="291960" indent="-291960">
              <a:lnSpc>
                <a:spcPct val="90000"/>
              </a:lnSpc>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Regulators/member bodies responded in the past</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e.g., audit firms allowed to assist clients to re-create data lost because of terrorist act</a:t>
            </a:r>
            <a:endParaRPr b="0" lang="en-US" sz="2800" spc="-1" strike="noStrike">
              <a:solidFill>
                <a:srgbClr val="ffffff"/>
              </a:solidFill>
              <a:latin typeface="Times New Roman"/>
            </a:endParaRPr>
          </a:p>
          <a:p>
            <a:pPr marL="291960" indent="-291960">
              <a:lnSpc>
                <a:spcPct val="90000"/>
              </a:lnSpc>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ff"/>
                </a:solidFill>
                <a:latin typeface="Times New Roman"/>
              </a:rPr>
              <a:t>IESBA believes regulators and member bodies would respond if similar situation were to occur</a:t>
            </a: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052FB-167A-4DF6-8765-F7A4D81F8FE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Category 2 – Mergers and acquisitions</a:t>
            </a:r>
            <a:endParaRPr b="0" lang="en-US" sz="3200" spc="-1" strike="noStrike">
              <a:solidFill>
                <a:srgbClr val="ffe87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Audit client may merge with, acquire, or be acquired by an entity that is not a client</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Transactions are outside control of firm</a:t>
            </a:r>
            <a:endParaRPr b="0" lang="en-US" sz="28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May happen quickly</a:t>
            </a:r>
            <a:endParaRPr b="0" lang="en-US" sz="28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Firm needs to identify and address interests and relationships creating independence issues</a:t>
            </a:r>
            <a:endParaRPr b="0" lang="en-US" sz="2800" spc="-1" strike="noStrike">
              <a:solidFill>
                <a:srgbClr val="ffffff"/>
              </a:solidFill>
              <a:latin typeface="Times New Roman"/>
            </a:endParaRPr>
          </a:p>
          <a:p>
            <a:pPr marL="288720" indent="-28872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ff"/>
                </a:solidFill>
                <a:latin typeface="Times New Roman"/>
              </a:rPr>
              <a:t>IESBA believes Code should address such situations</a:t>
            </a:r>
            <a:endParaRPr b="0" lang="en-US" sz="3200" spc="-1" strike="noStrike">
              <a:solidFill>
                <a:srgbClr val="ffffff"/>
              </a:solidFill>
              <a:latin typeface="Times New Roman"/>
            </a:endParaRPr>
          </a:p>
          <a:p>
            <a:pPr marL="288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EFA76-7EEF-4E0C-9504-4B0683E9E54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Category 3 – All other situations</a:t>
            </a:r>
            <a:endParaRPr b="0" lang="en-US" sz="3200" spc="-1" strike="noStrike">
              <a:solidFill>
                <a:srgbClr val="ffe87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Examples to date were not compelling</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Concern over a general exception claus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Would weaken the Cod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Could be abused</a:t>
            </a:r>
            <a:endParaRPr b="0" lang="en-US" sz="28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ff"/>
                </a:solidFill>
                <a:latin typeface="Times New Roman"/>
              </a:rPr>
              <a:t>IESBA did not support providing a specific exemption for such situations</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F38E9-A005-45E1-961F-A5C4F9D164D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sulting with a member body or regulator for Category 1 and 3 situations</a:t>
            </a:r>
            <a:endParaRPr b="0" lang="en-US" sz="3200" spc="-1" strike="noStrike">
              <a:solidFill>
                <a:srgbClr val="ffe87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ard believes consultation with a member body or regulator would be appropriate</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reed to include a sentence in Code to that effect</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lpful to the accountant and the member body/regulator to know that board would approve of consultation</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ticularly important when </a:t>
            </a:r>
            <a:endParaRPr b="0" lang="en-US" sz="2400" spc="-1" strike="noStrike">
              <a:solidFill>
                <a:srgbClr val="ffffff"/>
              </a:solidFill>
              <a:latin typeface="Times New Roman"/>
            </a:endParaRPr>
          </a:p>
          <a:p>
            <a:pPr lvl="3" marL="16002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ode is not the regulator’s Code</a:t>
            </a:r>
            <a:endParaRPr b="0" lang="en-US" sz="2000" spc="-1" strike="noStrike">
              <a:solidFill>
                <a:srgbClr val="ffffff"/>
              </a:solidFill>
              <a:latin typeface="Times New Roman"/>
            </a:endParaRPr>
          </a:p>
          <a:p>
            <a:pPr lvl="3" marL="16002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egulator or member body does not respond</a:t>
            </a:r>
            <a:endParaRPr b="0" lang="en-US" sz="2000" spc="-1" strike="noStrike">
              <a:solidFill>
                <a:srgbClr val="ffffff"/>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C79E4-770F-4213-BE7B-C5C3DDEC5D8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sultation clause</a:t>
            </a:r>
            <a:endParaRPr b="0" lang="en-US" sz="3200" spc="-1" strike="noStrike">
              <a:solidFill>
                <a:srgbClr val="ffe87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a professional accountant encounters circumstances that are so unusual that the application of a specific requirement of the Code would result in a disproportionate outcome or an outcome that may not be in the public interest, the professional accountant is recommended to consult with a member body or the relevant regulator.</a:t>
            </a:r>
            <a:endParaRPr b="0" lang="en-US" sz="3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0T22:18:34Z</dcterms:created>
  <dc:creator>Steven H. Goldthwaite</dc:creator>
  <dc:description/>
  <cp:keywords/>
  <dc:language>en-US</dc:language>
  <cp:lastModifiedBy>rjames</cp:lastModifiedBy>
  <cp:lastPrinted>1997-03-19T15:56:24Z</cp:lastPrinted>
  <dcterms:modified xsi:type="dcterms:W3CDTF">2009-03-19T19:30:06Z</dcterms:modified>
  <cp:revision>779</cp:revision>
  <dc:subject/>
  <dc:title>INTERNATIONAL FEDERATION OF ACCOUNTANTS</dc:title>
</cp:coreProperties>
</file>